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0F0-789A-4B6A-B544-2B2F4C4C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83C-64D4-4489-85BE-349804C1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CCD-DFAB-4110-A365-51F0E15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E3C-0E4D-4C7C-B455-3DBE8641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B91-9963-43A0-8118-A988968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B49-C1F3-4627-805C-D9E8B90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02C-D142-44B7-8CBE-20BD4B18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1F0-62C7-4A8A-8EC5-5053C3C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B8-DE2D-4DF2-B74E-A6ED4C9F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F4E-9B24-4501-9E42-4F19639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B3A-090B-437B-A5D5-667CC93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295-FA18-4C79-A642-A51FEB1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710-AD44-4E70-8677-E9682CC3F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MORE F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416556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7" descr="'fit'.jpg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5  billion years ago – first life appeared on Earth – simple 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45 million years ago – sponges, jellyfish, and algae appeared followed by worms, primitive arthropods, 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8 million years ago – mammals appeared on the Earth as well 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4 million years ago – radiation of mammals and the 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that the line of descent from an individual with a specific trait will not di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pass on your ge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sperm_egg_nl_fertilization.jpg"/>
          <p:cNvPicPr/>
          <p:nvPr/>
        </p:nvPicPr>
        <p:blipFill>
          <a:blip r:embed="rId1"/>
          <a:stretch/>
        </p:blipFill>
        <p:spPr>
          <a:xfrm>
            <a:off x="5791320" y="2819520"/>
            <a:ext cx="31240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dna-sperm-33410.jpg"/>
          <p:cNvPicPr/>
          <p:nvPr/>
        </p:nvPicPr>
        <p:blipFill>
          <a:blip r:embed="rId2"/>
          <a:stretch/>
        </p:blipFill>
        <p:spPr>
          <a:xfrm>
            <a:off x="1066680" y="4724280"/>
            <a:ext cx="3657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O PASSED THEIR GENES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3566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7" descr="'fit'.jpg"/>
          <p:cNvPicPr/>
          <p:nvPr/>
        </p:nvPicPr>
        <p:blipFill>
          <a:blip r:embed="rId2"/>
          <a:stretch/>
        </p:blipFill>
        <p:spPr>
          <a:xfrm>
            <a:off x="5029200" y="1676520"/>
            <a:ext cx="33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” has come to mean “strong” and “fast” becaus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o usually catches the food and runs away from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these pretty pets must fend for themselves in the wild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i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9" descr="leeping ca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3419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8" descr="white-fat-cat.jpg"/>
          <p:cNvPicPr/>
          <p:nvPr/>
        </p:nvPicPr>
        <p:blipFill>
          <a:blip r:embed="rId2"/>
          <a:stretch/>
        </p:blipFill>
        <p:spPr>
          <a:xfrm>
            <a:off x="304920" y="2666880"/>
            <a:ext cx="3959280" cy="38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ouse.jpg"/>
          <p:cNvPicPr/>
          <p:nvPr/>
        </p:nvPicPr>
        <p:blipFill>
          <a:blip r:embed="rId3"/>
          <a:stretch/>
        </p:blipFill>
        <p:spPr>
          <a:xfrm>
            <a:off x="3809880" y="2209680"/>
            <a:ext cx="2743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also must be “selected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ly must YOU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urvi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ass on your traits, but a mate must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o combine their trai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2.thedollpalace.com/images/articles/orlando-bloom-photo-orlando-bloom-2-05052007.jpg"/>
          <p:cNvPicPr/>
          <p:nvPr/>
        </p:nvPicPr>
        <p:blipFill>
          <a:blip r:embed="rId1"/>
          <a:stretch/>
        </p:blipFill>
        <p:spPr>
          <a:xfrm>
            <a:off x="990720" y="38098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oth.jpg"/>
          <p:cNvPicPr/>
          <p:nvPr/>
        </p:nvPicPr>
        <p:blipFill>
          <a:blip r:embed="rId2"/>
          <a:stretch/>
        </p:blipFill>
        <p:spPr>
          <a:xfrm>
            <a:off x="49528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Cardinal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is a female and one is a male.  Which is whi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male-cardinal.jpg"/>
          <p:cNvPicPr/>
          <p:nvPr/>
        </p:nvPicPr>
        <p:blipFill>
          <a:blip r:embed="rId1"/>
          <a:stretch/>
        </p:blipFill>
        <p:spPr>
          <a:xfrm>
            <a:off x="655560" y="2209680"/>
            <a:ext cx="376416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female cardinal.jpg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se fitness factors combine in the animal kingd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, healthy individuals tend to surviv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mor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aren’t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the 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, long, long, long, long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ection leads to the existence of certain species.  The weaklings die out and the strong ones liv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win, and others, articulated this idea when they wondered, why do certain organisms live in certain places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0:18:21Z</dcterms:created>
  <dc:creator>Joanne Lilliendahl</dc:creator>
  <dc:description/>
  <dc:language>en-US</dc:language>
  <cp:lastModifiedBy>Joanne Lilliendahl</cp:lastModifiedBy>
  <dcterms:modified xsi:type="dcterms:W3CDTF">2008-05-29T01:47:38Z</dcterms:modified>
  <cp:revision>12</cp:revision>
  <dc:subject/>
  <dc:title>Evolution</dc:title>
</cp:coreProperties>
</file>